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6228-AD50-4B7D-8F0D-C45DE8EB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9FE1-268A-498E-B98A-4DFCEE6F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8116-DB01-4381-B3A1-66C7DF2E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70F6-D82A-4C2B-A4D5-063DEFB3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4429-ED83-42F6-8E4D-CB9D73E9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E0B5-A912-4B43-BD61-2D80864A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1378-F74A-4ABC-8561-C7687E44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AB5E-2F0A-4B4B-9770-D1D8E75C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6174-3382-4B05-859D-D5527563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38C5-879B-4CC0-BA1B-7270C3E2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1FD1-D457-461A-8E28-06E5A7FC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A6DC-1C84-4EB3-A8B7-FBA47411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17D6-8E91-4FEA-BE7A-7E1F7452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1A6E-3342-4879-A527-497EDCBD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6BE8-7B72-4B67-9A0A-8124DCB2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6D09-61F9-4C87-B461-8C37461A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3EFB-1E23-4DA3-AFAF-64D71BD1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6447-21FE-4F9F-AAB3-2C588F34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3C2-93AD-42BB-B56E-1C33BC44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C10-01C9-4542-8A78-C190CB7D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E98-CAF9-41A9-8939-3B4394F3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5F1-DF24-40F9-AE69-721AC571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106B-0929-43B0-89AB-6D748B02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A53B-1FE1-4A3A-A780-E7C7480D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4393-306C-4FA7-A201-C532ADA26641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2AEA-DA19-49FD-ABBF-C07A841775E1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&#1085;&#1072;&#1095;&#1072;&#1083;&#1100;&#1085;&#1072;&#1103;%20&#1089;&#1090;&#1088;&#1072;&#1085;&#1080;&#1094;&#1072;.ppt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2636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КУЛЬТУР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 точки зрения современного обывателя, Барнаул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XVIII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ека – это провинциальный сибирский городок, где, по большому счёту, не было и быть не могло ничего интересного. Но так ли это было на самом дел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звестный путешественник и почётный член Академии наук Пётр Петрович Семёнов называл Барнаул самым культурным уголком Сибир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 действительно, культурная жизнь в нашем городе всегда если и не била ключом, то была, по крайней мере, довольно активная. Первоначально она сосредотачивалась вокруг гостиных горных офицеров и городских начальников. Там устраивались чтения, танцы и т. п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ание театра в Барнауле было построено в 1776 году. Это был деревянный дом, имевший фойе, зрительный зал, сцену и небольшую комнатку, служившую гримёрно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 1809 году библиотека вновь пополнилась за счёт расформирования небольших библиотек на алтайских заводах. Все книги из их фондов были переданы в Барнау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Задач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Используя шифровку, найдите название города, из которого было перевезено в Барнаул более 300 книг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                        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1 и 2 уровн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М  Р  О  К  Н  Е  З  О  Й  Г  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1   2   3   4  5   6  7  8   9  10 1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7   1  6   9  5   3  10  8   2  11  4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 библиотеке имелась богатая подборка периодической литературы. Выписывались газеты и журналы как на русском, так и на иностранных языках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сего же фонд библиотеки составлял в 1835 году около 9,5 тысяч томов. Это было очень прилично по тем времена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263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Задача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Решив поочерёдно уравнения, вы узнаете цифры трёхзначного числа книг, выданных читателям библиотеки в 1835 год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1 уровень.                  2 уровень.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1)(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6x + 9</a:t>
            </a: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):3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= </a:t>
            </a: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=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13</a:t>
            </a: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        1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25(x+2)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(1-х</a:t>
            </a: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)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=-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5x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                         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5x+3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2)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7(x + 2) = 28</a:t>
            </a: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               2) </a:t>
            </a:r>
            <a:r>
              <a:rPr b="1" i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25x+61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+ </a:t>
            </a:r>
            <a:r>
              <a:rPr b="1" i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1-x   </a:t>
            </a: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- 6,5 =1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                               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3  </a:t>
            </a: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3)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24</a:t>
            </a: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:(х+2)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= </a:t>
            </a: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6                3) </a:t>
            </a:r>
            <a:r>
              <a:rPr b="1" i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2(4(x-4))+36x 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= 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             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            </a:t>
            </a: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арнаульская библиотека долго оставалась на Алтае единственной. Книги её фондов регулярно рассылались по требованиям алтайских заводо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иблиотека пополнялась за счёт частных пожертвований. Так в 1838 году было подарено горожанам 57 книг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о постепенно из–за недофинансирования библиотека снизила количество выписываемой периодической литературы, приобретаемой новой, а в 1890 году она довольствовалась лишь частными пожертвованиям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Задач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1 уровен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В 1890 году в библиотеке Барнаула было 5942 книги. Определите, сколько из них было на русском языке, если известно, что это число вы получите, расставив тома в заданном ниже порядке: крайние тома остаются на своих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местах, а два оставшихся нужно поставить так, чтобы сумма номеров первого и третьего томов равнялась номеру второго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2   3   5    9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Задач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2 уровен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Сколько в 1890 году в библиотек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из 5942 книг было на русском языке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если известно, что это числ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получается из номеров томов,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расставленных в определённом порядке? Том А не стоит рядом с                     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томом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, том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 стоит последним и не стоит рядом с томом А, причем, 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=3,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²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+2,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=В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²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скоре кабинет министров передал барнаульскую библиотеку алтайскому отделению «Русского географического общества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 1925 году, когда был образован Сибирский край с центром в Новосибирске, многие культурные и научные ценности были отправлены туда. Лишь несколько книг из фондов библиотеки остались в Барнауле. Они сейчас хранятся в Краеведческом музе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днако в городе к этому времени уже были и другие библиотеки. Так в 1862 году была открыта частная Гуляевская библиотека, названная по фамилии её владельца. Она была платно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Задач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1 уровен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Сколько рублей в год должен был платить читатель за пользование библиотекой, если известно, что эту сумму можно дать монетами достоинством 5 рублей, 2 рубля, 1 рубль, 50 копеек, 10 и 5 копеек? Причём, 5 – рублёвых – 2 монеты, столько же 2 – рублёвых и 1 – рублёвых, пять монет по 50 копеек, десять -  по 10 копеек и столько же монет по 5 копеек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2 уровен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Сколько рублей в год составляла читательская плата за пользование библиотекой, если это число в 5 раз больше квадрата некоторого числа, которое при увеличении в 10 раз будет в 5 раз больше, чем100?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Библиотека эта не была крупной. Её фонд составлял всего несколько сотен книг. Просуществовала она недолго – всего 5 лет. После закрытия её фонд был передан в Томск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 1873 году свою библиотеку открыл купец Веснин. Плата за абонемент в ней составляла от 5 до 15 рублей в год. Её книжный фонд достиг трёх тысяч томо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Задач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1 уровен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Сколько читателей имела библиотека Веснина, если известно, что в том случае, если бы каждый читатель взял по одной книге, а половина читателей ещё по одной, то всего было бы выдано 135 книг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2 уровен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Если бы в библиотеке Веснина часть книг располагалась на трёх полках так, что на верхней полке было бы 30 книг, на средней – 40, на нижней – 50, то после того, как каждый читатель взял бы по одной книге, на верхней полке осталось бы 30% книг, на средней – 40%, а на нижней – 10% книг. Определите, сколько читателей было в библиотеке Веснина.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Эта библиотека закрылась лишь в 1885 году в связи с открытием бесплатной народной библиотеки при Нагорной школе. Затем библиотеки появились при реальном училище, Народном доме, Зайчанской школ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1888 году в Барнауле была открыта городская общественная библиотека. Деньги на её открытие выделили купцы и культурные деятели города. Горожане приносили книги в дар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 1917 году библиотека располагала тринадцатью тысячами книг. И всё это собрание погибло во время пожара 1917-го года. Уцелело лишь порядка 400 книг, которые были на руках у читателей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ервый барнаульский музей был открыт в 1823 году благодаря Петру Козьмичу Фролову и доктору Геблеру. Музей располагал коллекцией минералов, моделями паровых машин. Так же были представлены чучела животных и птиц, как алтайских, так и экзотических для наших мест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ино в нашем городе появилось в 1899 году. Первоначально специальных помещений для демонстрации фильмов не было. Затем, появились частные кинотеатры. Располагались они почти по всему Московскому проспект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ервые фильмы очень мало походили на современные. Это были небольшие сценки, в перерывах между которыми появлялись титры, поясняющие действие. Всё это сопровождалось импровизациями на фортепиано. Несмотря на несовершенство, кино пользовалось большим успехом у горожан. И люди, занимающиеся этим бизнесом, имели большой доход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ультурную жизнь Барнаула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XXI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века уже нельзя назвать провинциальной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. Драматический театр, реконструированный в 2007 году по последнему слову техники, известные всей стране театр музыкальной комедии и театр кукол «Сказка», театры-студии, Молодежный театр Алтая, Музей истории литературы, искусства и культуры Алтая, Государственный художественный музей, Музей «Город», Государственная филармония, открывшая двери после грандиозной реконструкции в 2007 году, «Европа – киномир» - вот неполный перечень центров развития городской культуры. Многие творческие объединения получили статус народных коллективов и прославляют имя Барнаула на всевозможных международных конкурсах своими победами («Юность», «Хорошки», «Иван да Марья», студия танца «Лариса», «Сибиряночка», оркестр «Сибирь» и многие другие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rId2"/>
          </p:cNvPr>
          <p:cNvSpPr/>
          <p:nvPr/>
        </p:nvSpPr>
        <p:spPr>
          <a:xfrm>
            <a:off x="2556000" y="5516640"/>
            <a:ext cx="4392360" cy="865080"/>
          </a:xfrm>
          <a:custGeom>
            <a:avLst/>
            <a:gdLst>
              <a:gd name="textAreaLeft" fmla="*/ 55800 w 4392360"/>
              <a:gd name="textAreaRight" fmla="*/ 4336560 w 439236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109635" h="21600">
                <a:moveTo>
                  <a:pt x="0" y="0"/>
                </a:moveTo>
                <a:lnTo>
                  <a:pt x="109635" y="0"/>
                </a:lnTo>
                <a:lnTo>
                  <a:pt x="109635" y="21600"/>
                </a:lnTo>
                <a:lnTo>
                  <a:pt x="0" y="21600"/>
                </a:lnTo>
                <a:close/>
              </a:path>
              <a:path fill="lightenLess" w="109635" h="21600">
                <a:moveTo>
                  <a:pt x="0" y="0"/>
                </a:moveTo>
                <a:lnTo>
                  <a:pt x="109635" y="0"/>
                </a:lnTo>
                <a:lnTo>
                  <a:pt x="108235" y="1400"/>
                </a:lnTo>
                <a:lnTo>
                  <a:pt x="1400" y="1400"/>
                </a:lnTo>
                <a:close/>
              </a:path>
              <a:path fill="darken" w="109635" h="21600">
                <a:moveTo>
                  <a:pt x="109635" y="0"/>
                </a:moveTo>
                <a:lnTo>
                  <a:pt x="109635" y="21600"/>
                </a:lnTo>
                <a:lnTo>
                  <a:pt x="108235" y="20200"/>
                </a:lnTo>
                <a:lnTo>
                  <a:pt x="108235" y="1400"/>
                </a:lnTo>
                <a:close/>
              </a:path>
              <a:path fill="darkenLess" w="109635" h="21600">
                <a:moveTo>
                  <a:pt x="10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235" y="20200"/>
                </a:lnTo>
                <a:close/>
              </a:path>
              <a:path fill="lighten" w="10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9635" h="21600">
                <a:moveTo>
                  <a:pt x="47811" y="10800"/>
                </a:moveTo>
                <a:lnTo>
                  <a:pt x="61824" y="3794"/>
                </a:lnTo>
                <a:lnTo>
                  <a:pt x="61824" y="17806"/>
                </a:ln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2636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Задач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Не менее какого количества мест было в зрительном зале этого театра по мнению краеведа В. Гришаева, если известно, что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1 уров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В системе счисления с основанием 8 это число равно 144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2 уров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Если число 2 возвести в куб, умножить на 6 и прибавить исходное число, а затем результат, разделив на 5, возвести в квадрат, то получится искомое число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уппа в театре была любительская. В неё входили молодые люди различного звани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ажной особенностью этого театра было то, что спектакли в нём ставились не на религиозные темы, как во многих других городах того времени, а на светски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пектакли театра были музыкальными и костюмированными, что выгодно отличало его от других театров России. На барнаульской сцене ставились даже оперы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о временем в городе возникли новые театральные труппы. А с 70-х годов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века Барнаул стали посещать с гастролями актёры из других городов. Гастроли всегда становились событием в культурной жизни город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1900 году в Барнауле был открыт Народный дом. На его сцене часто ставились спектакли. Репертуар барнаульских театров был очень разнообразен. Здесь ставились как бессодержательные мелодрамы и трагедии, так и серьёзные пьесы А. Н. Островского, М. Горького, А. П. Чехова, Ф. Шиллер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ыла в городе и библиотека. Появилась она в середине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XVIII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ека благодаря заводу, как и многое другое в нашем городе. В ней была специальная техническая литература для заводских техников и инженеров, а также книги для школьного чтения и буквар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зднее заводу понадобились рабочие более высокой квалификации, поэтому наряду с совершенствованием образования активно пополнялась и барнаульская библиотек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1761 году из Екатеринбургской горной библиотеки поступила большая партия книг. Книги также закупались в крупнейших книжных лавках Москвы, Петербурга и даже за границе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ервый каталог в барнаульской библиотеке был составлен в 1763 год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Задач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1 и 2 уровн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Сколько книг значилось в первом каталоге, если известно, что понадобилась бы полка длиной 22,44 м, чтобы на ней уместились все эти книги? Толщину одной книги возьмите 4,5 с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чень много сделавший для нашего города Козьма Дмитриевич Фролов не обошёл своим вниманием и библиотеку. В 1784 году, будучи в Петербурге, он приобрёл сразу 530 книг для алтайских заводов. Потом они попали в Барнаульскую библиотеку, а также в библиотеки Локтя и Змеиногорск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Задач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Пройдите путь от старта до финиша, складывая результаты вычислений. Полученная на финише сумма будет равна количеству книг, которым пополнилась в 1784 году Барнаульская библиотека благодаря К. Д. Фролову.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 = 3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1) 3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+5y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4)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 (35x-21y)-12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 = 2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2)(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x+y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):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3yx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):6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5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81+35(x-y)-42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3)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82y-3x+50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6)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xy-4(x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y) +x-4y+6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7)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 - x + 3(x + y) +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06:22:32Z</dcterms:created>
  <dc:creator>stud</dc:creator>
  <dc:description/>
  <dc:language>en-US</dc:language>
  <cp:lastModifiedBy>User</cp:lastModifiedBy>
  <dcterms:modified xsi:type="dcterms:W3CDTF">2008-12-22T09:49:22Z</dcterms:modified>
  <cp:revision>24</cp:revision>
  <dc:subject/>
  <dc:title>КУЛЬТУРА.</dc:title>
</cp:coreProperties>
</file>