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EA0-5E65-452C-8464-1F9BB90C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E4F-07B3-4FF2-A827-86F2B2A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6F0-16C6-4B76-8094-54058D4C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950-5E32-4394-A70E-3D97DE70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CA6DB-8AF2-4288-A4B7-0FD7BCB3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D943A-806F-43AF-B521-B9D4778C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1769E-AA06-4AFF-ACCA-85CF1C75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8F9C5-9B2E-4E87-9072-105FB9FD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D30C-CDC4-49B4-9138-2EC68135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A4EB3-FA0F-4F5E-8958-12849CCA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12C65-2090-4F76-807E-FB2A5C1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432-E77B-453E-9150-68858BBE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095D3-9E5E-4A7A-863D-D0EF1ADF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3A5D6-BDB9-4CD6-9D5F-2D99F92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E957F-FCC9-4B81-9AF9-1DC986D4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F63AC-BE45-45A4-AFE2-73B45C95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E0C28-C935-4BDC-8F0A-7D4CCFD1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DC0-4FCD-4B19-8221-A217200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696-45C5-4F9F-AA39-CA4185D9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315-AFB9-4F14-8FB6-DD90E8ED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4F9-4BC3-4DD9-ADB2-647655C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A22-9BED-4B25-B8FF-E1FB91DF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BEB-9F87-4F9E-A6CD-16B71853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99C-795A-4D8F-A157-5EB549D7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21E6-7D52-422A-BDB9-F9106FE34F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EEFE-B127-4B4E-A607-B6EDC06AB0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85;&#1072;&#1095;&#1072;&#1083;&#1100;&#1085;&#1072;&#1103;%20&#1089;&#1090;&#1088;&#1072;&#1085;&#1080;&#1094;&#1072;.ppt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Географ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рнаул находится в зоне с резко континентальным климатом. Здесь холодная, длительная и снежная зима. Лето же, напротив, короткое и тёплое, иногда даже жаркое. Это следствие того, что Алтайский край находится почти в центре материка Евразия и в большой удалённости от морей и океанов. В зимнее время территория города находится под влиянием холодного Сибирского антициклона, а летом -  Монгольского. На климат оказывают влияние европейская часть России и Атлантика. Арктические воздушные массы, не встречающие на своём пути какие-либо препятствия, приносят холод. Годовая амплитуда температуры в Барнауле около 37,3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 уров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айдите значение выраж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1*103+7*102+9*101+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мае именно этого года произошло сильное наводнение, которое разрушено много построек Барнау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 уров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простите выражение и вычислите его зна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+7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(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+7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3) пр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= 0,5 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= -895, вы узнаете, в мае какого года в Барнауле было большое навод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то – самое тёплое, иногда даже жаркое, время года в Барнауле. Пик его приходится на июль. В это время континент сильно нагревается, поэтому происходит понижение атмосферного давления, чаще приходит влажный воздух с Атлантики. Как следствие этого бывает влажная по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овы сезонные изменения погоды в Барнау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рнаул расположен на левом берегу реки Обь. Она обеспечивает наш город водными ресурсами. Благодаря этой великой сибирской реке развиваются и межрегиональные связи города. Кроме того, в Барнауле работают предприятия химической промышленности, потребляющие большое количество воды. Длина реки Обь 3680 к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1 и 2 уров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йдите, сколько дней Обь находится безо льда и сколько дней продолжается ледостав, если в сумме эти числа дают 347, а их разность равна 2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?     Если длину Барнаулки (в километрах) сначала умножить на 2 и прибавить к произведению 3, затем извлечь квадратный корень и полученный результат разделить на 7, то получится 3. Найдите длину реки Барнаул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ка Барнаулка, протекающая по территории города, является левым притоком Оби, а исток её находится около озера Горьк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rId2"/>
          </p:cNvPr>
          <p:cNvSpPr/>
          <p:nvPr/>
        </p:nvSpPr>
        <p:spPr>
          <a:xfrm>
            <a:off x="3059280" y="4149720"/>
            <a:ext cx="4248000" cy="865080"/>
          </a:xfrm>
          <a:custGeom>
            <a:avLst/>
            <a:gdLst>
              <a:gd name="textAreaLeft" fmla="*/ 55800 w 4248000"/>
              <a:gd name="textAreaRight" fmla="*/ 4192200 w 4248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106032" h="21600">
                <a:moveTo>
                  <a:pt x="0" y="0"/>
                </a:moveTo>
                <a:lnTo>
                  <a:pt x="106032" y="0"/>
                </a:lnTo>
                <a:lnTo>
                  <a:pt x="106032" y="21600"/>
                </a:lnTo>
                <a:lnTo>
                  <a:pt x="0" y="21600"/>
                </a:lnTo>
                <a:close/>
              </a:path>
              <a:path fill="lightenLess" w="106032" h="21600">
                <a:moveTo>
                  <a:pt x="0" y="0"/>
                </a:moveTo>
                <a:lnTo>
                  <a:pt x="106032" y="0"/>
                </a:lnTo>
                <a:lnTo>
                  <a:pt x="104632" y="1400"/>
                </a:lnTo>
                <a:lnTo>
                  <a:pt x="1400" y="1400"/>
                </a:lnTo>
                <a:close/>
              </a:path>
              <a:path fill="darken" w="106032" h="21600">
                <a:moveTo>
                  <a:pt x="106032" y="0"/>
                </a:moveTo>
                <a:lnTo>
                  <a:pt x="106032" y="21600"/>
                </a:lnTo>
                <a:lnTo>
                  <a:pt x="104632" y="20200"/>
                </a:lnTo>
                <a:lnTo>
                  <a:pt x="104632" y="1400"/>
                </a:lnTo>
                <a:close/>
              </a:path>
              <a:path fill="darkenLess" w="106032" h="21600">
                <a:moveTo>
                  <a:pt x="106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632" y="20200"/>
                </a:lnTo>
                <a:close/>
              </a:path>
              <a:path fill="lighten" w="106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6032" h="21600">
                <a:moveTo>
                  <a:pt x="46010" y="10800"/>
                </a:moveTo>
                <a:lnTo>
                  <a:pt x="60023" y="3794"/>
                </a:lnTo>
                <a:lnTo>
                  <a:pt x="60023" y="17806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e3e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 1 уров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Если к общему числу часов в году прибавить 716, то отношение этой суммы к годовой продолжительности солнечного сияния в Барнауле будет равно 5. А  если прибавить 726, то отношение суммы к годовой продолжительности солнечного сияния в Москве будет равно 6. Найдите разность между годовыми продолжительностями солнечного сияния в Барнауле и Моск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уров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спользуя данные таблицы, приведённые ниже, начертите график изменения средних температур воздуха в Барнауле в течение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яц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,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Месяц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,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Январь    -17,5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юль         19,5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враль  -16,2                  Август       17,0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т        -9,3                   Сентябрь   10,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рель     1,8                    Октябрь     2,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й          11,3                   Ноябрь     - 8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юнь        17,6                   Декабрь    -15,1   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енью происходит смена тёплых южных потоков воздуха и северных холодных. От этого погода в городе то дождливая и ненастная, то тёплая и сухая. В сентябре часты дожди, но бывают и ясные деньки. Возможно потепление во второй половине месяца, так называемое “бабье лето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октябре уже больше становится морозных дней. Иногда землю покрывает снег, но это зачастую ненадолго. Устойчивый же снежный покров появляется в нояб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има – самое холодное и самое продолжительное время года в нашем городе. Центральным месяцами являются январь и февра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Задача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 1 и 2 уров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менно в этом году в период с 9 по 16 января были сильные морозы, замерзала ртуть в термометрах, то есть температура опускалась ниже -52 С. А в последующие 10 дней она была от 37,5 до 50 С мороза. В каком году это происходило, если номер года представляет собой четырёхзначное число, в котором сумма всех цифр равна числу, образующему две последние цифры, первая и третья цифры одинаковы, а вторая и четвёртая относятся одна к другой как 4:1 соответствен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онце февраля – начале марта вступает в свои владения весна. Происходит оседание и таяние снежного покрова. Именно от его толщины зависит количество влаги в почве и, как следствие, урожайность озимых сельскохозяйственных культу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Задач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1 уровен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числив значение числового выражени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3*7)(3*7*22+1)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 узнаете, В марте какого года в Барнауле было землетряс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 уров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ешив уравнение, вы узнаете, в марте какого года в Барнауле было землетрясе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7 (2 (х : 70-1) -49) =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обилии солнечного света и довольно ясной погоде снег быстро сходит. В апреле уже тепло днём, а ночью бывают заморозки даже в начале м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4:14:12Z</dcterms:created>
  <dc:creator>User</dc:creator>
  <dc:description/>
  <dc:language>en-US</dc:language>
  <cp:lastModifiedBy>User</cp:lastModifiedBy>
  <dcterms:modified xsi:type="dcterms:W3CDTF">2008-12-22T09:22:55Z</dcterms:modified>
  <cp:revision>14</cp:revision>
  <dc:subject/>
  <dc:title>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